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E5A3B-AB91-42C5-8C8B-7B1752C91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E2A0C-2DB4-45A3-8987-0D6FA6A98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52E35-E35E-4740-A962-5F5AB0494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69766-A960-4945-A385-B255439CF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466B0-03AA-47BD-A7BB-C072A8F8C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2602E-D495-4C24-A197-0C48AA9E4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E6965-16F8-4093-BAC7-C3E498538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765CF-B8AF-4CE8-B43A-4A3696C05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545CA-6077-4976-BA26-B0463C701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530EA-707D-41B8-B870-8E56B0D44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66B46-E1FB-4F33-BAAB-98A91C6B0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4BF59-5D91-404A-B4C4-EE0064068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C7A18-9F8A-4561-A262-F966EC730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14A03-BD07-448A-9EEC-1DB811146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115C3-18D8-4503-B820-D3EA266F9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ACFA8-4483-41CB-95F0-78F3C5225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C28EA-33C2-443B-9AE9-679EA3EF0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23CA99-01BE-4ED6-A762-0B610CCBEC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9AA375-697C-44F8-A3A9-35B2846FA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AFA88D-EA78-4C99-B994-C6B6DEB4B1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2C8C5C-4BE2-4B24-82AC-EB234CCD9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300543-049B-4C40-BBAF-2CC66D3CB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BCEEB-9AE2-402F-8E5F-53108EFD5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453661-F0AF-46E7-AF88-1EEBB2B846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96147-5885-4D92-851C-5DC29EE12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8F591-D98B-4254-B44A-D36896BBA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79AA5-5C18-4F39-ADFE-D4EA233E1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FFC6C8-2946-499F-8750-90EC15B22D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BF5318-2A16-49F4-9D6F-947ABFAA25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7D2246-D292-45A0-9A43-16460BD41E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112E5-D328-4609-A327-1FBEE9F4E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3E49D-5AF7-42A5-B5EA-89882A1A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52CAE-F581-4689-83A6-6EF151576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70126-43B9-4B17-890C-AC4278AE8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3C19A-EBDA-4349-B1D2-E1522E6E5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BCA96-277D-4511-BB3B-FCF6DA1D1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2A766-9968-4A13-8A48-4D947ED4861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EE1FA-1504-4FB3-A6E8-04B70190C2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189CE-3C7E-424F-BD21-36C4011D2F8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F3C1A-C785-422E-A0B3-440355FDE8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2" descr="C:\Documents and Settings\gocampo\Escritorio\LOGO-02.png"/>
          <p:cNvPicPr/>
          <p:nvPr/>
        </p:nvPicPr>
        <p:blipFill>
          <a:blip r:embed="rId3"/>
          <a:stretch/>
        </p:blipFill>
        <p:spPr>
          <a:xfrm>
            <a:off x="6872400" y="127080"/>
            <a:ext cx="2212920" cy="12906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B5370-5A7A-4D54-9A5F-AD4D5F6EDCD0}"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630C3-93F4-4921-A881-5CC67908AA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0032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400" spc="-1" strike="noStrike">
                <a:solidFill>
                  <a:srgbClr val="000000"/>
                </a:solidFill>
                <a:latin typeface="Calibri"/>
              </a:rPr>
              <a:t>CONCLUSIONES</a:t>
            </a:r>
            <a:br>
              <a:rPr sz="4400"/>
            </a:br>
            <a:r>
              <a:rPr b="1" lang="es-ES" sz="4400" spc="-1" strike="noStrike">
                <a:solidFill>
                  <a:srgbClr val="000000"/>
                </a:solidFill>
                <a:latin typeface="Calibri"/>
              </a:rPr>
              <a:t>GENERALES</a:t>
            </a:r>
            <a:endParaRPr b="0" lang="en-US" sz="4400" spc="-1" strike="noStrike">
              <a:solidFill>
                <a:srgbClr val="000000"/>
              </a:solidFill>
              <a:latin typeface="Calibri"/>
            </a:endParaRPr>
          </a:p>
        </p:txBody>
      </p:sp>
      <p:sp>
        <p:nvSpPr>
          <p:cNvPr id="126" name="4 Título"/>
          <p:cNvSpPr/>
          <p:nvPr/>
        </p:nvSpPr>
        <p:spPr>
          <a:xfrm>
            <a:off x="609480" y="1347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400" spc="-1" strike="noStrike">
                <a:solidFill>
                  <a:srgbClr val="000000"/>
                </a:solidFill>
                <a:latin typeface="Calibri"/>
              </a:rPr>
              <a:t>SECRETARIA DE PLANEAC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859040" y="274320"/>
            <a:ext cx="5132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000000"/>
                </a:solidFill>
                <a:latin typeface="Calibri"/>
              </a:rPr>
              <a:t>RECOMENDACIONES INFORME DE GESTION DE INFANCIA, ADOLESCENCIA Y JUVENTUD</a:t>
            </a:r>
            <a:endParaRPr b="0" lang="en-US" sz="2400" spc="-1" strike="noStrike">
              <a:solidFill>
                <a:srgbClr val="000000"/>
              </a:solidFill>
              <a:latin typeface="Calibri"/>
            </a:endParaRPr>
          </a:p>
        </p:txBody>
      </p:sp>
      <p:sp>
        <p:nvSpPr>
          <p:cNvPr id="128" name="Rectangle 1"/>
          <p:cNvSpPr/>
          <p:nvPr/>
        </p:nvSpPr>
        <p:spPr>
          <a:xfrm>
            <a:off x="0" y="1439640"/>
            <a:ext cx="8672400" cy="4356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58595b"/>
                </a:solidFill>
                <a:latin typeface="Arial"/>
                <a:ea typeface="Arial"/>
              </a:rPr>
              <a:t>El rigor técnico asociado a la construcción de un “Plan de Mejoramiento” exige tener claridad sobre las situaciones actuales, los escenarios por alcanzar, los recursos disponibles para aplicar, las metas específicas, los tiempos involucrados y los responsables por los resultados esperados para con todo ello, darle contenido al término, “oportunidad del plan”.</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58595b"/>
                </a:solidFill>
                <a:latin typeface="Arial"/>
                <a:ea typeface="Arial"/>
              </a:rPr>
              <a:t>Se señala la necesidad perentoria de estructurar sistemas de información confiables y con series de tiempo suficientes para leer tendencias, ante cuya ausencia, es en extremo riesgoso aventurar diagnósticos precisos que den cuenta de los problemas reales y sobre todo de su magnitud.</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La construcción de indicadores específicos sobre la infancia, niñez y adolescencia es un ejercicio que permite diagnosticar el estado de la garantía de derechos de manera periódica; sin embargo, buena parte de los indicadores corresponden al sector salud, el cual es uno de los sectores que presentan peor calidad en las estadísticas en nuestro país, pues a excepción de las estadísticas vitales, el DANE no es la entidad encargada de la construcción y validación de esta información.</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Se plantea que, en cada uno de los sectores representativos del gasto público social, se deberán aplicar instrumentos de la planeación estratégica que permitan construir una agenda común para todos los actores de la sociedad civil y por supuesto, para los diferentes actores públicos que se expresan en un territorio y que casi siempre asumen rutas diferentes o por lo menos, poco convergentes</a:t>
            </a:r>
            <a:endParaRPr b="0" lang="en-US" sz="1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129" name="Picture 5" descr=""/>
          <p:cNvPicPr/>
          <p:nvPr/>
        </p:nvPicPr>
        <p:blipFill>
          <a:blip r:embed="rId1"/>
          <a:srcRect l="17325" t="24041" r="19152" b="53282"/>
          <a:stretch/>
        </p:blipFill>
        <p:spPr>
          <a:xfrm>
            <a:off x="264960" y="5603760"/>
            <a:ext cx="573732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GENERAL</a:t>
            </a:r>
            <a:endParaRPr b="0" lang="en-US" sz="4400" spc="-1" strike="noStrike">
              <a:solidFill>
                <a:srgbClr val="000000"/>
              </a:solidFill>
              <a:latin typeface="Calibri"/>
            </a:endParaRPr>
          </a:p>
        </p:txBody>
      </p:sp>
      <p:sp>
        <p:nvSpPr>
          <p:cNvPr id="131" name="4 CuadroTexto"/>
          <p:cNvSpPr/>
          <p:nvPr/>
        </p:nvSpPr>
        <p:spPr>
          <a:xfrm>
            <a:off x="628560" y="3849840"/>
            <a:ext cx="7986960" cy="292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Plan Contiene 461 metas de las cuales 390 corresponden al plan Básico y 71 dependían de Recursos Contingent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40% de las metas fueron ejecutadas completamente. De éstas en la mitad (89 metas) presentaron ejecuciones superiores a las programad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Sólo 9% de las metas del plan Básico y No fueron ejecutadas durante el cuatrienio.</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El 82% de las metas del Plan Básico y 36% de las metas d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recursos contingentes Presentaron avances mayores al 50%.</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32" name=""/>
          <p:cNvGraphicFramePr/>
          <p:nvPr/>
        </p:nvGraphicFramePr>
        <p:xfrm>
          <a:off x="914400" y="1417680"/>
          <a:ext cx="7424640" cy="2432160"/>
        </p:xfrm>
        <a:graphic>
          <a:graphicData uri="http://schemas.openxmlformats.org/drawingml/2006/table">
            <a:tbl>
              <a:tblPr/>
              <a:tblGrid>
                <a:gridCol w="2498760"/>
                <a:gridCol w="820800"/>
                <a:gridCol w="822240"/>
                <a:gridCol w="820800"/>
                <a:gridCol w="820800"/>
                <a:gridCol w="820440"/>
                <a:gridCol w="820800"/>
              </a:tblGrid>
              <a:tr h="435960">
                <a:tc row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Estado de las meta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Plan Básico</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Recursos Contingente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Total Meta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N°</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solidFill>
                      <a:srgbClr val="f2f2f2"/>
                    </a:solid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400" spc="-1" strike="noStrike">
                          <a:solidFill>
                            <a:srgbClr val="000000"/>
                          </a:solidFill>
                          <a:latin typeface="MS Sans Serif"/>
                        </a:rPr>
                        <a:t>%</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solidFill>
                      <a:srgbClr val="f2f2f2"/>
                    </a:solid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Meta Cumplida</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63</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2%</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8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iónsuperior a 8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2%</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0</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ión entre 50 y 8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8%</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6%</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12</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24%</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Ejecucón inferior a 50%</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7</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9%</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1%</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5</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Meta No ejecutada</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4</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9%</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8</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54%</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72</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6%</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5760">
                      <a:solidFill>
                        <a:srgbClr val="000000"/>
                      </a:solidFill>
                    </a:lnB>
                    <a:noFill/>
                  </a:tcPr>
                </a:tc>
              </a:tr>
              <a:tr h="222840">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Total Metas</a:t>
                      </a:r>
                      <a:endParaRPr b="0" lang="en-US" sz="14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390</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7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461</a:t>
                      </a:r>
                      <a:endParaRPr b="0" lang="en-US" sz="14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100%</a:t>
                      </a:r>
                      <a:endParaRPr b="0" lang="en-US" sz="14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r>
              <a:tr h="435960">
                <a:tc gridSpan="7">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400" spc="-1" strike="noStrike">
                          <a:solidFill>
                            <a:srgbClr val="000000"/>
                          </a:solidFill>
                          <a:latin typeface="MS Sans Serif"/>
                        </a:rPr>
                        <a:t>Fuente: Elaboración de la secretaría de Planeación con base en información reportada por las secretarías.</a:t>
                      </a:r>
                      <a:endParaRPr b="0" lang="en-US" sz="1400" spc="-1" strike="noStrike">
                        <a:solidFill>
                          <a:srgbClr val="000000"/>
                        </a:solidFill>
                        <a:latin typeface="Arial"/>
                      </a:endParaRPr>
                    </a:p>
                  </a:txBody>
                  <a:tcPr anchor="b" marL="9360" marR="93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SECTORIAL</a:t>
            </a:r>
            <a:endParaRPr b="0" lang="en-US" sz="4400" spc="-1" strike="noStrike">
              <a:solidFill>
                <a:srgbClr val="000000"/>
              </a:solidFill>
              <a:latin typeface="Calibri"/>
            </a:endParaRPr>
          </a:p>
        </p:txBody>
      </p:sp>
      <p:graphicFrame>
        <p:nvGraphicFramePr>
          <p:cNvPr id="134" name=""/>
          <p:cNvGraphicFramePr/>
          <p:nvPr/>
        </p:nvGraphicFramePr>
        <p:xfrm>
          <a:off x="419040" y="1417680"/>
          <a:ext cx="8328240" cy="4878360"/>
        </p:xfrm>
        <a:graphic>
          <a:graphicData uri="http://schemas.openxmlformats.org/drawingml/2006/table">
            <a:tbl>
              <a:tblPr/>
              <a:tblGrid>
                <a:gridCol w="3440160"/>
                <a:gridCol w="814320"/>
                <a:gridCol w="814320"/>
                <a:gridCol w="816120"/>
                <a:gridCol w="814320"/>
                <a:gridCol w="814320"/>
                <a:gridCol w="814680"/>
              </a:tblGrid>
              <a:tr h="5097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DEL PLAN BÁSICO</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Cumplid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superior a 8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 entre 50 y 8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ón inferior a 50%</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Metas No Ejecutada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SOC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3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ultur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porte</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Social y Comunitari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Educación</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Salud</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Viviend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FENSA Y SEGURIDAD</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nvivencia y Seguridad Ciudadan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ECONÓMICO Y EMPLE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indust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pecuari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mercio Interna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Empresa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Miner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Turism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INSTITU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encia y Tecnología</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3423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obierno, Planeación y Desarrollo Institucion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FÍSICO TERRITORI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ua Potable y Saneamiento Básico</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3%</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estión de Riesgos</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Infraestructura Vial y de Transporte</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174960">
                <a:tc>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 GENERAL</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90</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8%</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7200" rIns="7200" tIns="72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960">
                <a:tc gridSpan="7">
                  <a:txBody>
                    <a:bodyPr lIns="7200" rIns="7200" tIns="72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Fuente: Elaboración de la secretaría de Planeación con base en información reportada por las diferentes secretarías.</a:t>
                      </a:r>
                      <a:endParaRPr b="0" lang="en-US" sz="1100" spc="-1" strike="noStrike">
                        <a:solidFill>
                          <a:srgbClr val="000000"/>
                        </a:solidFill>
                        <a:latin typeface="Arial"/>
                      </a:endParaRPr>
                    </a:p>
                  </a:txBody>
                  <a:tcPr anchor="b" marL="7200" marR="720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839960" y="274320"/>
            <a:ext cx="5145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RESUMEN SECTORIAL</a:t>
            </a:r>
            <a:endParaRPr b="0" lang="en-US" sz="4400" spc="-1" strike="noStrike">
              <a:solidFill>
                <a:srgbClr val="000000"/>
              </a:solidFill>
              <a:latin typeface="Calibri"/>
            </a:endParaRPr>
          </a:p>
        </p:txBody>
      </p:sp>
      <p:graphicFrame>
        <p:nvGraphicFramePr>
          <p:cNvPr id="136" name=""/>
          <p:cNvGraphicFramePr/>
          <p:nvPr/>
        </p:nvGraphicFramePr>
        <p:xfrm>
          <a:off x="374760" y="1233360"/>
          <a:ext cx="8383320" cy="5211720"/>
        </p:xfrm>
        <a:graphic>
          <a:graphicData uri="http://schemas.openxmlformats.org/drawingml/2006/table">
            <a:tbl>
              <a:tblPr/>
              <a:tblGrid>
                <a:gridCol w="3289320"/>
                <a:gridCol w="779400"/>
                <a:gridCol w="777960"/>
                <a:gridCol w="990360"/>
                <a:gridCol w="989280"/>
                <a:gridCol w="777600"/>
                <a:gridCol w="779400"/>
              </a:tblGrid>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b" marL="6840" marR="6840">
                    <a:lnL>
                      <a:noFill/>
                    </a:lnL>
                    <a:lnR w="2880">
                      <a:solidFill>
                        <a:srgbClr val="000000"/>
                      </a:solidFill>
                    </a:lnR>
                    <a:lnT>
                      <a:noFill/>
                    </a:lnT>
                    <a:lnB w="2880">
                      <a:solidFill>
                        <a:srgbClr val="000000"/>
                      </a:solidFill>
                    </a:lnB>
                    <a:no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PLAN BÁSIC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RECURSOS CONTINGENTES</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 rIns="6840" tIns="684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000">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Ejecución Promedio E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N° Metas</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vance Promedio</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SOC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ultur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porte</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Social y Comunitari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Educación</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Salud</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Viviend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FENSA Y SEGURIDAD</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nvivencia y Seguridad Ciudadan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330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ECONÓMICO Y EMPLE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indust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ropecuari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NA</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omercio Interna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Desarrollo Empresa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Miner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Turism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DE DESARROLLO INSTITU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5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Cencia y Tecnología</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8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420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obierno, Planeación y Desarrollo Institucion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4</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AREA FÍSICO TERRITORI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1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Agua Potable y Saneamiento Básico</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23</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Gestión de Riesgos</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18</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9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Sector Infraestructura Vial y de Transporte</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47</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9%</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5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72%</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TOTAL GENERAL</a:t>
                      </a:r>
                      <a:endParaRPr b="0" lang="en-US" sz="1100" spc="-1" strike="noStrike">
                        <a:solidFill>
                          <a:srgbClr val="000000"/>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9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36%</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461</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6840" rIns="6840" tIns="684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100" spc="-1" strike="noStrike">
                          <a:solidFill>
                            <a:srgbClr val="000000"/>
                          </a:solidFill>
                          <a:latin typeface="MS Sans Serif"/>
                        </a:rPr>
                        <a:t>70%</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r>
              <a:tr h="174600">
                <a:tc gridSpan="7">
                  <a:txBody>
                    <a:bodyPr lIns="6840" rIns="6840" tIns="684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100" spc="-1" strike="noStrike">
                          <a:solidFill>
                            <a:srgbClr val="000000"/>
                          </a:solidFill>
                          <a:latin typeface="MS Sans Serif"/>
                        </a:rPr>
                        <a:t>Fuente: Elaboración de la secretaría de Planeación con base en información reportada por las diferentes secretarías.</a:t>
                      </a:r>
                      <a:endParaRPr b="0" lang="en-US" sz="1100" spc="-1" strike="noStrike">
                        <a:solidFill>
                          <a:srgbClr val="000000"/>
                        </a:solidFill>
                        <a:latin typeface="Arial"/>
                      </a:endParaRPr>
                    </a:p>
                  </a:txBody>
                  <a:tcPr anchor="b" marL="6840" marR="68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19360" y="274320"/>
            <a:ext cx="5310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400" spc="-1" strike="noStrike">
                <a:solidFill>
                  <a:srgbClr val="000000"/>
                </a:solidFill>
                <a:latin typeface="Calibri"/>
              </a:rPr>
              <a:t>ASPECTOS GENERALES</a:t>
            </a:r>
            <a:endParaRPr b="0" lang="en-US" sz="4400" spc="-1" strike="noStrike">
              <a:solidFill>
                <a:srgbClr val="000000"/>
              </a:solidFill>
              <a:latin typeface="Calibri"/>
            </a:endParaRPr>
          </a:p>
        </p:txBody>
      </p:sp>
      <p:sp>
        <p:nvSpPr>
          <p:cNvPr id="138" name="2 CuadroTexto"/>
          <p:cNvSpPr/>
          <p:nvPr/>
        </p:nvSpPr>
        <p:spPr>
          <a:xfrm>
            <a:off x="561960" y="1417680"/>
            <a:ext cx="796464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os sectores con mayores ejecuciones fueron Convivencia Y Seguridad Ciudadana, Infraestructura Vial y de Transporte, Desarrollo Social Y Comunitario y Gobierno, Planeación Y Desarrollo Institucional, los cuales presentaron ejecuciones mayores al 50% en todas sus meta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os sectores con menor proporción de metas con ejecución superior a 50% fueron Vivienda, Minero, Agua Potable y Saneamiento Básico y Ciencia Y Tecnología, con proporciones de entre 50 y 60% de sus met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Sólo fue ejecutada la tercera parte de las metas que dependían de recursos contingent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a:rPr>
              <a:t>La ejecución Promedio de las metas del Plan Básico fue cercana al 80%, la de las metas de recursos contingentes fue de 36% y el promedio de ejecución de as 461 metas fue del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329920"/>
            <a:ext cx="8229600" cy="730440"/>
          </a:xfrm>
          <a:prstGeom prst="rect">
            <a:avLst/>
          </a:prstGeom>
          <a:noFill/>
          <a:ln w="0">
            <a:noFill/>
          </a:ln>
        </p:spPr>
        <p:txBody>
          <a:bodyPr anchor="t">
            <a:normAutofit fontScale="95000"/>
          </a:bodyPr>
          <a:p>
            <a:pPr marL="325800" indent="-32580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4400" spc="-1" strike="noStrike">
                <a:solidFill>
                  <a:srgbClr val="000000"/>
                </a:solidFill>
                <a:latin typeface="Calibri"/>
              </a:rPr>
              <a:t>MUCHAS GRACIAS</a:t>
            </a:r>
            <a:endParaRPr b="0" lang="en-US" sz="4400" spc="-1" strike="noStrike">
              <a:solidFill>
                <a:srgbClr val="000000"/>
              </a:solidFill>
              <a:latin typeface="Calibri"/>
            </a:endParaRPr>
          </a:p>
        </p:txBody>
      </p:sp>
      <p:sp>
        <p:nvSpPr>
          <p:cNvPr id="140" name="1 Título"/>
          <p:cNvSpPr/>
          <p:nvPr/>
        </p:nvSpPr>
        <p:spPr>
          <a:xfrm>
            <a:off x="1547640" y="4240080"/>
            <a:ext cx="6712200" cy="7304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CARLOS ALBERTO CORREA VARGAS</a:t>
            </a:r>
            <a:endParaRPr b="0" lang="en-US" sz="2400" spc="-1" strike="noStrike">
              <a:solidFill>
                <a:srgbClr val="000000"/>
              </a:solidFill>
              <a:latin typeface="Arial"/>
            </a:endParaRPr>
          </a:p>
          <a:p>
            <a:pPr marL="343080" indent="-343080" algn="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Calibri"/>
              </a:rPr>
              <a:t>Secretario de Planeación Departamen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6:58:52Z</dcterms:created>
  <dc:creator>Waldo Mejia</dc:creator>
  <dc:description/>
  <dc:language>en-US</dc:language>
  <cp:lastModifiedBy>Gocampo</cp:lastModifiedBy>
  <dcterms:modified xsi:type="dcterms:W3CDTF">2011-12-21T18:40:28Z</dcterms:modified>
  <cp:revision>19</cp:revision>
  <dc:subject/>
  <dc:title>Slide 1</dc:title>
</cp:coreProperties>
</file>